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DB3-2089-4826-8D04-E294F2A1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3C9-2D2B-4D08-BBA0-A7FC493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A41-1B1C-4FB5-8417-B0C740C9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2AA-B347-4736-B56E-EF6056AC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6A35-E630-492B-839D-3E64314C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C58-4EEA-4A11-8610-DF7EB93D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366-E4DB-41F3-B86A-6FEE5781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A3A-118F-4090-AEDC-4FFC5DD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C7DE-6E70-45D0-ABE2-8927D138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934C-BB51-4F3D-9464-207C96C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E45A-F248-4568-8C41-A4CA25B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7E1-0A6F-4124-8820-AACD1C5B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617-5BC8-4199-B930-172384F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00E-D436-4820-8B26-3138776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5BE-CBF0-49ED-8514-6FF3073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410F-79A7-47A9-9E01-EA2278EF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391D-0F23-422C-83A3-CE80716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EF8D-1721-4276-9143-9CBE902D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77C6-8DA5-4ECE-AE7C-1A9D73E0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052B-47E6-47CC-8E89-D5466511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72A1-6AC2-452A-9563-7340ED0A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6A51-4D3C-408F-8686-B3B12F1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CE3-CECA-4E6E-BD31-8D458CD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2E7D-66AD-4AF6-B5A0-4B32ADA8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2FAB-725A-434A-BC58-9C62CBC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4E83-371A-45E0-95D3-F5B4F636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69E07-0B84-4FAE-9A0C-06843B5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09D4-98BA-4112-B7E4-72372B5D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1071-337C-427C-B38A-32BEA5D4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8C7D-B7B5-4546-8FEF-0DB775E8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74A7-BDE9-4935-A6CA-72273234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268B-0562-464D-B0BD-CB796E6A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A250-281D-4960-BF79-C5B88E96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CD46-4FA8-4D4C-BC7C-E7EA79E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A727-DB27-4000-9844-7BC368C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A5FC-CEC4-4C9B-8DD8-D87C02A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6CED-41A2-412B-9FA7-290EE5FD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FC7B-E4C3-4836-900E-A6A654D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4B43-DED5-4B3F-B99E-CB124CE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93C5-8DEB-4C8A-B91C-DD21D4C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7C2D-F791-4DB8-80D2-8540006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47C1-9F3A-4782-93DC-FA6DCE12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5E07-05C9-464F-A218-534EE411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F9B6-7290-4628-BC51-1175EE54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359-607A-4864-A7D6-60595EF8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0943-7CD4-488E-83BC-C445CEC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19370-EF51-4811-B586-2B94C217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6C3B-AAAA-4BF4-BE79-F825F8B2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5284-B8B3-4563-947F-56A20D44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95F23-208F-4E90-883D-468ECF74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66A70-172D-4C65-921D-2B66BC08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6A26-2E93-4506-82CE-82263CE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E65C-9456-4A6A-B751-2E03B51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F70A-B0CF-4B6E-B80C-D9D857D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1B88-8D9C-477B-A25D-1606CE1C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375-0F82-44FC-9135-1A510747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B7FB-7272-4E4B-9F21-065F044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DB55A-2EE3-499F-B8FB-D752EE13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388BB-1E68-4581-8C43-35A783C8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336D-5FA7-469E-9029-EE4D1557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859E-7AA4-47AF-9AD4-024651C0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2539-172E-425E-B07F-A8A2F14C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F4A5-A464-4E93-BE18-C2408B1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CDCC-6D00-4C38-9325-841FA00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6968-55C0-44F2-8F7F-927BA61E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06B4-5172-459F-AEAE-68A25E00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F9B-51A6-4DF3-A12D-F30BF85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BA64-C29D-4667-8D73-3E10F36B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A396-2226-4B9F-BD3E-55055272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2849-E3BE-410F-B316-A58D195B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3F918-64F0-4E0B-9D30-2FB890EB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E6CD-CE24-41D4-8562-E26E36B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DC25-E9F4-497D-B020-64B8911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47B7-74B3-4A11-8A8A-51EAEA5E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451B-F755-45B5-80B3-2238610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4BF3D-7FA2-46DF-8287-81F76043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8DBA6-A9DC-4C6B-AD6A-28076C8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5BD-8C51-4FDB-AE1B-F1634BB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30FF-A764-40D5-8E7A-E033EFC7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A9DD-E042-42DB-92CA-7E6CE9F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A08F-EB93-4EE9-87DF-FDB4649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5C2A-B119-45B3-9D3A-5903B765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BB17-1281-4076-BB0B-A7F996FF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6A8-3CA9-4791-B129-AE67180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024-2116-48F6-ABB1-A5BC219660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3E7-0811-471A-94DA-A981B38E9A6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8B4A-5F0C-4FA8-ACE3-E9CB5719B24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AF5-378B-4BE8-91A1-551CD9913E3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3CBA-1E53-4497-99F5-D7C7322F77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85E-28A5-47D6-8B66-B8AA57A19CA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ADB-1C9E-4AA2-8718-E92F2CDFCD8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algaebase.org/search/species/detail/?species_id=28199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461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Bacillari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Bacillariophyta are the diato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remely abundant both in the plankton and in sediments in marine and freshwater ecosyste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may even be found in soils or on moist moss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hard bivalve shells composed mostly of silica, and often live in colon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rally green or brown in col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ry out photosynthesis, and therefore are an important food source for marine organis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Bacillariophyta (Diatoms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3" name="Picture 7" descr="centriclive"/>
          <p:cNvPicPr/>
          <p:nvPr/>
        </p:nvPicPr>
        <p:blipFill>
          <a:blip r:embed="rId1"/>
          <a:stretch/>
        </p:blipFill>
        <p:spPr>
          <a:xfrm>
            <a:off x="380880" y="1523880"/>
            <a:ext cx="2578320" cy="2667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odontella"/>
          <p:cNvPicPr/>
          <p:nvPr/>
        </p:nvPicPr>
        <p:blipFill>
          <a:blip r:embed="rId2"/>
          <a:stretch/>
        </p:blipFill>
        <p:spPr>
          <a:xfrm>
            <a:off x="5486400" y="1490760"/>
            <a:ext cx="3228840" cy="2773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300px-Diatoms_in_dark_field_lighting"/>
          <p:cNvPicPr/>
          <p:nvPr/>
        </p:nvPicPr>
        <p:blipFill>
          <a:blip r:embed="rId3"/>
          <a:stretch/>
        </p:blipFill>
        <p:spPr>
          <a:xfrm>
            <a:off x="243828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hae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Brow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argest of the chromis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ke most photosynthetic protists, have traditionally been classified as pla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owever, phaeophytes are not closely related to land plants; their cells contain different pigments, such as chlorophyll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nd fucoxanthin.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also lack the plasmodesmata and starch production of land plants and their relative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argest brown algae may reach over 30 meters in lengt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haeophyta (Brown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9" name="Picture 6" descr="fucussm"/>
          <p:cNvPicPr/>
          <p:nvPr/>
        </p:nvPicPr>
        <p:blipFill>
          <a:blip r:embed="rId1"/>
          <a:stretch/>
        </p:blipFill>
        <p:spPr>
          <a:xfrm>
            <a:off x="457200" y="1905120"/>
            <a:ext cx="3484440" cy="426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ems"/>
          <p:cNvPicPr/>
          <p:nvPr/>
        </p:nvPicPr>
        <p:blipFill>
          <a:blip r:embed="rId2"/>
          <a:stretch/>
        </p:blipFill>
        <p:spPr>
          <a:xfrm>
            <a:off x="4191120" y="2057400"/>
            <a:ext cx="4495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od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Red Alga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d algae are red because of the presence of the pigment phycoerythr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is pigment reflects red light and absorbs blue light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blue light penetrates water to a greater depth than light of longer wavelengths, these pigments allow red algae to photosynthesize and live at somewhat greater depths than most other "algae"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ome rhodophytes have very little phycoerythrin, and may appear green or bluish from the chlorophyll and other pigments present in th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d algae have a number of general characteristics that in combination distinguish them from other eukaryotic group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bsence of flagella and centriol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loridean starch as a storage product and the storage of starch in the cytoplasm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hycoerythrin, phycocyanin, and allophycocyanin as accessory pigment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stacked thylakoids in plastid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no chloroplast endoplasmic reticulum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odophyta (Red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4" name="Picture 7" descr="redtitle1a"/>
          <p:cNvPicPr/>
          <p:nvPr/>
        </p:nvPicPr>
        <p:blipFill>
          <a:blip r:embed="rId1"/>
          <a:stretch/>
        </p:blipFill>
        <p:spPr>
          <a:xfrm>
            <a:off x="152280" y="1752480"/>
            <a:ext cx="2878200" cy="4496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redtitle2a"/>
          <p:cNvPicPr/>
          <p:nvPr/>
        </p:nvPicPr>
        <p:blipFill>
          <a:blip r:embed="rId2"/>
          <a:stretch/>
        </p:blipFill>
        <p:spPr>
          <a:xfrm>
            <a:off x="3124080" y="1600200"/>
            <a:ext cx="2838600" cy="2838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redtitle3a"/>
          <p:cNvPicPr/>
          <p:nvPr/>
        </p:nvPicPr>
        <p:blipFill>
          <a:blip r:embed="rId3"/>
          <a:stretch/>
        </p:blipFill>
        <p:spPr>
          <a:xfrm>
            <a:off x="6151680" y="1600200"/>
            <a:ext cx="273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izopod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hylum Rhizopoda includes a large group of protists that move by means of pseudopods (extensions of the cytoplas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their pseudopods to capture prey and also for locomo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heterotrophic, feeding on a wide range of bacteria, algae and other protist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familiar would be ameb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eliozo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diol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Ameba"/>
          <p:cNvPicPr/>
          <p:nvPr/>
        </p:nvPicPr>
        <p:blipFill>
          <a:blip r:embed="rId1"/>
          <a:stretch/>
        </p:blipFill>
        <p:spPr>
          <a:xfrm>
            <a:off x="4724280" y="228600"/>
            <a:ext cx="2971800" cy="256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2581200" cy="2551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radiolaria-jj-001"/>
          <p:cNvPicPr/>
          <p:nvPr/>
        </p:nvPicPr>
        <p:blipFill>
          <a:blip r:embed="rId3"/>
          <a:stretch/>
        </p:blipFill>
        <p:spPr>
          <a:xfrm>
            <a:off x="914400" y="3352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2"/>
          <p:cNvSpPr/>
          <p:nvPr/>
        </p:nvSpPr>
        <p:spPr>
          <a:xfrm>
            <a:off x="5715000" y="2743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e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5181480" y="59436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ioz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160020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ol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380988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	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izopod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oraminifer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"Hole Bearers" or forams for shor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large group of chiefly marine amoeboid protists with reticulating pseudopods, fine strands of cytoplasm that branch and merge to form a dynamic n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are single-celled protists with shel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ir shells are also referred to as tests because in some forms the protoplasm covers the exterior of the she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shells are commonly divided into chambers which are added during growth, though the simplest forms are open tubes or hollow sphere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species, the shell may be made of organic compounds, sand grains and other particles cemented together, or crystalline calci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lcarina s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obulus s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dosaria subcalar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oraminfer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9" name="Picture 7" descr="Robulus_sp"/>
          <p:cNvPicPr/>
          <p:nvPr/>
        </p:nvPicPr>
        <p:blipFill>
          <a:blip r:embed="rId1"/>
          <a:stretch/>
        </p:blipFill>
        <p:spPr>
          <a:xfrm>
            <a:off x="4114800" y="533520"/>
            <a:ext cx="3581280" cy="2130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Nodosaria_subcalaris"/>
          <p:cNvPicPr/>
          <p:nvPr/>
        </p:nvPicPr>
        <p:blipFill>
          <a:blip r:embed="rId2"/>
          <a:stretch/>
        </p:blipFill>
        <p:spPr>
          <a:xfrm>
            <a:off x="4419720" y="3352680"/>
            <a:ext cx="3552840" cy="2446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"/>
          <p:cNvSpPr/>
          <p:nvPr/>
        </p:nvSpPr>
        <p:spPr>
          <a:xfrm>
            <a:off x="5181480" y="2286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2193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arina S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4" descr="Calcarina_sp"/>
          <p:cNvPicPr/>
          <p:nvPr/>
        </p:nvPicPr>
        <p:blipFill>
          <a:blip r:embed="rId3"/>
          <a:stretch/>
        </p:blipFill>
        <p:spPr>
          <a:xfrm>
            <a:off x="228600" y="3352680"/>
            <a:ext cx="4038480" cy="24084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525780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lus s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5105520" y="5867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osaria subcalar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65240" y="262080"/>
            <a:ext cx="7467480" cy="13842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64008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-They are unicellular, colonial, or simple multicellular organisms that possess a eukaryotic cell organization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-It is a proposed idea that protists were the first eukaryotes to evolve</a:t>
            </a: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Zoomastigophor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reshwater or parasitic unicellular heterotrophs by ingestion, or absorp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ovement by flagell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exual reprodu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zooflagellates, gardia, trichomonas, Trypanosoma (African Sleeping sicknes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Sporozo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Unicellular heterotrophs by absorptio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onmotil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pore-forming parasites of animal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omplex life cyc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,600 spec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Plasniodium (malaria), Pneumocysfis (pricurrion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Ciliophor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reshwater unicellular heterotrophs by inges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ovement by cil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o cell wall but some have a flexible pellic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 sexual reproduction with complex sexual exchange through conjug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8,000 spec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Paramecium, vorticell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Acrasi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ellular slime mol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ll fungus-lik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exual reproduction common by conidiospor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Myx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lime mol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rganisms having a noncellular and multinucleate creeping vegetative phase and a propagative spore-producing sta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omprises Myxomycetes and Acrasiomycet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arcyria cinerea, arcyria denudate, arcyria nutan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O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ontains over 500 spec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he majority of these organisms are in the groups commonly known as water molds or downy mildew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"Oomycota" means "egg fungi“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Despite the name and their superficial appearance, oomycetes are not fung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While some members of Oomycota are relatively harmless, some species are parasitic and negatively affect aquatic plants or organism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Examples: saprolegnia, Phytophthora infestan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hotosynthes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Their nutrition is plant-lik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-Gre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A moderate sized grou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Unicellular flagellat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imarily freshwater, but important in some marine environ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are heterotroph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so called Euglenozoa, euglenoids, euglenophyte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stinctive cell walls composed of spiral strips, termed the "pellicle"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s: Euglena, Astas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Dinoflagellates are Alveoles: single celled organisms (protists) which are neither animals nor plants thoug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They are found in most aquatic environments and form a major part of the modern plankt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Living dinoflagellates may be autotrophs, phagotrophs, symbionts or parasit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Photosynthetic species (autotrophs) account for about half the number of living dinoflagellate gener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Examples: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octiluca, Ceratium, Gonyaulax, Gymnodi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hrysophy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hrysophytes, or golde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microscopic chromists in fresh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ome species are colorless, but the vast majority are photosyntheti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o common cell 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f flagella are present, there may be one or two; if there are two they may or may not be simila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hrysophyta tend to be photosynthetic, but some, especially the golden algae, become heterotrophic when there is inadequate light or if dissolved food is plentiful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produce through cell divis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Anthophys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Chlorophy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ree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large division of chiefly freshwater eukaryotic alga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ssesses chlorophyll a and b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ores food as starch in their plasti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y be unicellular (one cell) or multicellular (many cel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group, along with the cyanobacteria, is involved in the change of the atmospheric composition - the change from a reducing atmosphere to an oxidizing atmospher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hlorophyta (Green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17" name="Picture 6" descr="cauart"/>
          <p:cNvPicPr/>
          <p:nvPr/>
        </p:nvPicPr>
        <p:blipFill>
          <a:blip r:embed="rId1"/>
          <a:stretch/>
        </p:blipFill>
        <p:spPr>
          <a:xfrm>
            <a:off x="380880" y="1981080"/>
            <a:ext cx="2768760" cy="4267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odver"/>
          <p:cNvPicPr/>
          <p:nvPr/>
        </p:nvPicPr>
        <p:blipFill>
          <a:blip r:embed="rId2"/>
          <a:stretch/>
        </p:blipFill>
        <p:spPr>
          <a:xfrm>
            <a:off x="3276720" y="1447920"/>
            <a:ext cx="3962160" cy="252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closkuetzing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148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3:40Z</dcterms:created>
  <dc:creator>Student</dc:creator>
  <dc:description/>
  <dc:language>en-US</dc:language>
  <cp:lastModifiedBy>Teacher</cp:lastModifiedBy>
  <dcterms:modified xsi:type="dcterms:W3CDTF">2009-03-20T14:00:17Z</dcterms:modified>
  <cp:revision>8</cp:revision>
  <dc:subject/>
  <dc:title>Kingdom Protista</dc:title>
</cp:coreProperties>
</file>